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66D-17F7-4A87-A7C5-42AAA033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EE9-091E-4293-B603-C637871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1D7-6AC7-4C78-953A-E99F975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D7C-DAB6-4C9D-82B9-27F3206E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239-E733-4B7B-8F04-63E70890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B91-F1D4-4FAA-A61D-00DEFA99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D316-D546-46B6-B1C6-940E85A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29C-AFD6-4BD0-A6A4-6142C4B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828-BA1B-4DC2-98EA-3A96C1F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2DE2-F74C-49EA-AACE-9983C33F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79A-4187-4AE8-9999-DD7BB0F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8D6-99C2-4894-BA48-A6469D5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5506-752A-4928-997B-600B2E1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AFE5-C08C-4EBE-B861-790CD3F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C3D7-827E-4ACF-90EC-0CBF01A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D24-CA1F-4013-9277-0A7AA3AD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90E-65A7-4BB4-8AA8-ED63FF66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0BB-F38A-48F2-B108-9DA9F58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8E3-415A-403A-9653-1CDA91C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AEF-8CFA-4C91-ABE5-5315E8F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9C2-C52F-4D9F-A776-1D8F127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093-1C97-4CA1-8757-47021F0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0EE-CA8B-4E1E-B6F7-5F81536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1B3-AEB5-4E3D-A11D-63F120B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BB16-0933-4B59-9FD1-96F92968D1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863-6988-4AEF-86C9-1DDB57FBF0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17524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dede"/>
                </a:solidFill>
                <a:latin typeface="Rockwell Extra Bold"/>
              </a:rPr>
              <a:t>Notes – The Scientific Method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52388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ae5d"/>
                </a:solidFill>
                <a:latin typeface="Times New Roman"/>
              </a:rPr>
              <a:t>Unit: Introduction to Biolog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80880" y="533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Times New Roman"/>
              </a:rPr>
              <a:t>1.01 Identify biological questions and problems that can be answered through scientific investiga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Times New Roman"/>
              </a:rPr>
              <a:t>1.02 Design and conduct scientific investigations to answer biological ques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57200" y="1371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buClr>
                <a:srgbClr val="33cccc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Qualitative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= data that is observe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with your sense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 behavior of the insects a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y are attracted to the flow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54680" y="762120"/>
            <a:ext cx="51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V.  Recor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ata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 a table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6576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buClr>
                <a:srgbClr val="33cccc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Quantitative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= the number measured &amp; recorde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 number of insects that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re attracted OR how fast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insects are attracte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38080" y="762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alyz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ata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– done through charts and graphs.  This helps make sense out of your result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4" descr="C:\Documents and Settings\sautrey.22-706-E-44929\My Documents\My Pictures\charts.jpg"/>
          <p:cNvPicPr/>
          <p:nvPr/>
        </p:nvPicPr>
        <p:blipFill>
          <a:blip r:embed="rId2"/>
          <a:stretch/>
        </p:blipFill>
        <p:spPr>
          <a:xfrm>
            <a:off x="3048120" y="289548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838080" y="10666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Form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clusions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states whethe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your hypothesis was correct o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correct.  Also suggests any error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at may have influenced you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result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609480" y="91440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Publish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results.  Most reliab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publications are scientific journal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at give 1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hand results.  2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an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3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hand publications like newspaper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d columns are worse, because the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just summarize what a scientist di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5800" y="8380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X.  Hierarchy of Scientific Information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467720" y="2438280"/>
            <a:ext cx="59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ory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La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914400" y="9144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ory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an explanation based on many observations during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repeate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experiments.  It can be changed or modified when new data is discovere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403848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ory of Evolution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ell The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990720" y="91440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.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- a basic fact that describes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behavior of a natur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phenomenon – “Rule of Nature”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33720" y="38862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 of Gravitation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s of Mo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609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X. Measurements in Science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4479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whole world uses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etric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- (except  the United States!)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2004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B.The Modern form of the metric system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s called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ternational Syste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of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Uni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- calle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I Uni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, which a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based on units of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09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C. Six measurements scientists make: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Length, Mass, Weight, Volume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emperature and Dens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2004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ength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e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To measure great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istances, scientists use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Kilome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1Km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a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ra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1Kg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F.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Weigh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a measure of the strength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of the pull of gravity on an object.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basic SI unit for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Weigh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Newto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1Kg of mass weighs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295280" y="9144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Times New Roman"/>
              </a:rPr>
              <a:t>Essential Questions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44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99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How do scientists design &amp;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conduct controlled experiment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914400" y="3505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99cc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What is the difference between a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hypothesis &amp; theory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14400" y="5029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3.   What are common measurements made in science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6094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G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Volum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i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1 L =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mL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514600"/>
            <a:ext cx="792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H. Basic SI unit to measu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emperatur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Kelvi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Scientist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nstead us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elcius (</a:t>
            </a:r>
            <a:r>
              <a:rPr b="1" lang="en-US" sz="3600" spc="-1" strike="noStrike" u="sng" baseline="30000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0 =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point of water.  100 =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ilin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point of water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838080"/>
            <a:ext cx="7925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nsity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the amount of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a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the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s in a certain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Volum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of material.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ensity = m/V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/cm</a:t>
            </a:r>
            <a:r>
              <a:rPr b="1" lang="en-US" sz="3600" spc="-1" strike="noStrike" u="sng" baseline="30000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838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J. Common Prefixes: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1752480"/>
          <a:ext cx="7391520" cy="404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39152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149480" y="9907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State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990720" y="3809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observation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d perform backgroun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research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Picture 4" descr="question cute"/>
          <p:cNvPicPr/>
          <p:nvPr/>
        </p:nvPicPr>
        <p:blipFill>
          <a:blip r:embed="rId2"/>
          <a:stretch/>
        </p:blipFill>
        <p:spPr>
          <a:xfrm>
            <a:off x="6019920" y="1447920"/>
            <a:ext cx="2617560" cy="396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447920" y="17524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</a:t>
            </a:r>
            <a:r>
              <a:rPr b="0" lang="en-US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i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hy do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 very fragrant (smelly) flowers attract many insect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143000" y="27432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Flowers that are very fragrant will attract more insects than flowers that are not very fragra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66680" y="9144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II. Form a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a testab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planation or an educate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gue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91440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arry out an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experiment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procedure that tests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y collecting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formation under controlle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ondition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6" descr="bee angry"/>
          <p:cNvPicPr/>
          <p:nvPr/>
        </p:nvPicPr>
        <p:blipFill>
          <a:blip r:embed="rId2"/>
          <a:stretch/>
        </p:blipFill>
        <p:spPr>
          <a:xfrm>
            <a:off x="6781680" y="1371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bee chilling"/>
          <p:cNvPicPr/>
          <p:nvPr/>
        </p:nvPicPr>
        <p:blipFill>
          <a:blip r:embed="rId3"/>
          <a:stretch/>
        </p:blipFill>
        <p:spPr>
          <a:xfrm>
            <a:off x="4114800" y="48769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62120" y="838080"/>
            <a:ext cx="7772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imes New Roman"/>
              </a:rPr>
              <a:t>Requirements of every experiment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066680" y="14479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t must be given a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trol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a  group or sample that is used as a standard of comparison.  This is created usually by having a setup in which all conditions are kept the same, that you do not tes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1905120" y="5181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 flower with no sce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609480" y="838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.  It must only be testing on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variable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- any factor that can influence the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outcome. All oth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variable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should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stan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that are monitored an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kept stable to not effect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resul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of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e experime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52480" y="426708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temperature,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humidity, same wind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flowers, same ins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066680" y="76212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.  The factor that causes the chang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 the experiment is called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Independent Variabl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060640" y="350532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ow smelly the flower 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Picture 2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914400" y="45720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762120" y="7621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D.  The factor that changes in you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periment and that you mak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measurements of is called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ependent Variable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09680" y="4267080"/>
            <a:ext cx="5791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hether the Insects a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ttracted or no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Picture 4" descr="bee chilling"/>
          <p:cNvPicPr/>
          <p:nvPr/>
        </p:nvPicPr>
        <p:blipFill>
          <a:blip r:embed="rId2"/>
          <a:stretch/>
        </p:blipFill>
        <p:spPr>
          <a:xfrm>
            <a:off x="685800" y="48769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30:23Z</dcterms:created>
  <dc:creator>HCS</dc:creator>
  <dc:description/>
  <dc:language>en-US</dc:language>
  <cp:lastModifiedBy> </cp:lastModifiedBy>
  <dcterms:modified xsi:type="dcterms:W3CDTF">2009-08-22T21:08:59Z</dcterms:modified>
  <cp:revision>30</cp:revision>
  <dc:subject/>
  <dc:title>Notes – The Scientific Method</dc:title>
</cp:coreProperties>
</file>